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22FC-AE3C-432A-A889-08D670AE2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CDCE-F9E2-4C42-B161-FD77CE1F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2109-A846-421F-AE54-9567C7E9E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8004-19E7-4EA4-9546-378764164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7ED2-7578-4AD5-9E58-0A0C5AF4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2CAD-D55C-4274-8F29-6A801618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D64F-E3F4-46A2-9646-44C36BA9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03E4-C89C-4BC1-AF68-AC743806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F129-CBC5-45C8-8679-A1C3A816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BDB6-AA25-48CF-9362-51DF29AE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F5B4-58C7-4651-B4BA-7FD08382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9931-75FF-4EF2-8FED-26F5C233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7FAA-9F4A-46CC-900E-63AE1D53C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5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286000"/>
            <a:ext cx="83822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Exercises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on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Confounding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and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Effect Modific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010280" cy="2362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14400" y="3429000"/>
            <a:ext cx="7086600" cy="990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990720" y="4572000"/>
            <a:ext cx="701028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7543800" cy="2638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3657600"/>
            <a:ext cx="7772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696440" cy="4191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066680" y="4724280"/>
            <a:ext cx="73152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848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0" b="24696"/>
          <a:stretch/>
        </p:blipFill>
        <p:spPr>
          <a:xfrm>
            <a:off x="1371600" y="1828800"/>
            <a:ext cx="64771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1371600" y="1447920"/>
            <a:ext cx="64008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0" b="28815"/>
          <a:stretch/>
        </p:blipFill>
        <p:spPr>
          <a:xfrm>
            <a:off x="1143000" y="1676520"/>
            <a:ext cx="6705720" cy="3809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43000" y="5486400"/>
            <a:ext cx="66294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1295280" y="1447920"/>
            <a:ext cx="64771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219320" y="1371600"/>
            <a:ext cx="6705360" cy="4572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400800" y="5105520"/>
            <a:ext cx="1143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295280" y="1214280"/>
            <a:ext cx="647712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772400" cy="3352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2120" y="4038480"/>
            <a:ext cx="76960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523880" y="1371600"/>
            <a:ext cx="601992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447920" y="1258920"/>
            <a:ext cx="62481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0" t="0" r="0" b="38878"/>
          <a:stretch/>
        </p:blipFill>
        <p:spPr>
          <a:xfrm>
            <a:off x="1066680" y="1295280"/>
            <a:ext cx="6858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0" r="0" b="38878"/>
          <a:stretch/>
        </p:blipFill>
        <p:spPr>
          <a:xfrm>
            <a:off x="838080" y="685800"/>
            <a:ext cx="7162920" cy="4221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rcRect l="59129" t="52668" r="26000" b="41700"/>
          <a:stretch/>
        </p:blipFill>
        <p:spPr>
          <a:xfrm>
            <a:off x="3048120" y="5105520"/>
            <a:ext cx="2590560" cy="68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61009" r="0" b="30292"/>
          <a:stretch/>
        </p:blipFill>
        <p:spPr>
          <a:xfrm>
            <a:off x="914400" y="480060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rcRect l="0" t="0" r="0" b="48529"/>
          <a:stretch/>
        </p:blipFill>
        <p:spPr>
          <a:xfrm>
            <a:off x="914400" y="1371600"/>
            <a:ext cx="6858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61009" r="0" b="30292"/>
          <a:stretch/>
        </p:blipFill>
        <p:spPr>
          <a:xfrm>
            <a:off x="1143000" y="3809880"/>
            <a:ext cx="6858000" cy="609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48529"/>
          <a:stretch/>
        </p:blipFill>
        <p:spPr>
          <a:xfrm>
            <a:off x="1143000" y="762120"/>
            <a:ext cx="6858000" cy="30477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rcRect l="59252" t="52668" r="26000" b="41334"/>
          <a:stretch/>
        </p:blipFill>
        <p:spPr>
          <a:xfrm>
            <a:off x="2819520" y="4572000"/>
            <a:ext cx="3504960" cy="9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0" t="70247" r="0" b="19352"/>
          <a:stretch/>
        </p:blipFill>
        <p:spPr>
          <a:xfrm>
            <a:off x="1066680" y="4191120"/>
            <a:ext cx="6858000" cy="761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rcRect l="0" t="0" r="0" b="48529"/>
          <a:stretch/>
        </p:blipFill>
        <p:spPr>
          <a:xfrm>
            <a:off x="1066680" y="1143000"/>
            <a:ext cx="6858000" cy="3048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143000" y="4876920"/>
            <a:ext cx="670572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0" t="70247" r="0" b="19352"/>
          <a:stretch/>
        </p:blipFill>
        <p:spPr>
          <a:xfrm>
            <a:off x="1143000" y="3809880"/>
            <a:ext cx="6858000" cy="609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rcRect l="0" t="0" r="0" b="48529"/>
          <a:stretch/>
        </p:blipFill>
        <p:spPr>
          <a:xfrm>
            <a:off x="1143000" y="1143000"/>
            <a:ext cx="6858000" cy="26668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rcRect l="58864" t="53556" r="24730" b="42002"/>
          <a:stretch/>
        </p:blipFill>
        <p:spPr>
          <a:xfrm>
            <a:off x="2971800" y="5105520"/>
            <a:ext cx="3200400" cy="76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1219320" y="4343400"/>
            <a:ext cx="670536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79146" r="0" b="10539"/>
          <a:stretch/>
        </p:blipFill>
        <p:spPr>
          <a:xfrm>
            <a:off x="1143000" y="3809880"/>
            <a:ext cx="6858000" cy="533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rcRect l="0" t="0" r="0" b="48529"/>
          <a:stretch/>
        </p:blipFill>
        <p:spPr>
          <a:xfrm>
            <a:off x="1143000" y="1143000"/>
            <a:ext cx="6858000" cy="2666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629400" y="4038480"/>
            <a:ext cx="12193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219320" y="4267080"/>
            <a:ext cx="6705360" cy="495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876920" y="3657600"/>
            <a:ext cx="22096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0" t="79146" r="0" b="10539"/>
          <a:stretch/>
        </p:blipFill>
        <p:spPr>
          <a:xfrm>
            <a:off x="1219320" y="297180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rcRect l="0" t="0" r="0" b="48529"/>
          <a:stretch/>
        </p:blipFill>
        <p:spPr>
          <a:xfrm>
            <a:off x="1219320" y="304920"/>
            <a:ext cx="6858000" cy="2666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781680" y="3352680"/>
            <a:ext cx="12193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rcRect l="51004" t="47338" r="4001" b="23335"/>
          <a:stretch/>
        </p:blipFill>
        <p:spPr>
          <a:xfrm>
            <a:off x="1295280" y="3657600"/>
            <a:ext cx="670572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4495680" y="2819520"/>
            <a:ext cx="25909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297180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848720" cy="4314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5800" y="4952880"/>
            <a:ext cx="7848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391520" cy="4448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14400" y="4876920"/>
            <a:ext cx="73915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38080" y="5029200"/>
            <a:ext cx="75438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8487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696080" cy="4724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90720" y="5257800"/>
            <a:ext cx="685800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7924680" cy="4495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38080" y="4800600"/>
            <a:ext cx="72392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17T22:31:22Z</dcterms:modified>
  <cp:revision>19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86904489</vt:r8>
  </property>
  <property fmtid="{D5CDD505-2E9C-101B-9397-08002B2CF9AE}" pid="3" name="_AuthorEmail">
    <vt:lpwstr>dgk0@cdc.gov</vt:lpwstr>
  </property>
  <property fmtid="{D5CDD505-2E9C-101B-9397-08002B2CF9AE}" pid="4" name="_AuthorEmailDisplayName">
    <vt:lpwstr>Kleinbaum, David</vt:lpwstr>
  </property>
  <property fmtid="{D5CDD505-2E9C-101B-9397-08002B2CF9AE}" pid="5" name="_EmailSubject">
    <vt:lpwstr>meas of disease freq pp attached</vt:lpwstr>
  </property>
</Properties>
</file>